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049-952E-412E-989C-F3C69925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236-3EE4-447E-B3E6-C18DBBAA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EA7-AB6F-49ED-A626-70F15169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E5B-305E-4F41-82E6-D0216876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ABE5-08C9-46B0-A7EB-A4BFA9DC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C99B-9F80-43C6-BB83-6224EE64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D7FC-0E89-45AE-88C4-068A0162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39B6-78B5-4F42-8BF4-58E4AA3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BD1-5C70-477F-869F-E9943E33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F59E-1691-40A8-B5FF-4CCE5C61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FB18-96FD-481F-9B22-834BCCA2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B18-8CB7-415C-B11D-54E5F068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95AD-6D9B-4377-9D74-606F6F31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922E-1E4C-440C-991C-30B47EA7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139C-71AC-41A4-8E69-D7ADF718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9799-6DF0-4D94-8732-C213D66B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567B-1129-44DE-8578-3F9EB1E9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4D7-B856-492F-B0F4-DC820823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A5A-ECAC-45C3-A1A3-1B005F82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A02-0FD2-4657-8FDC-8255FAEE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27C-29BE-4BC7-A7D3-E8379DA8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CB7-0552-4D08-999C-BC66311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943-7003-4A3B-8895-6B9B3CD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DFB-0D6A-4F6D-8F4F-C9798451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82E7-C405-4540-AF18-D13E2E30E73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2CFB-B7B2-43AE-9AED-4545A96E7FF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Into the Wil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n Krakauer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. W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asons why to read this book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od detail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see what is going on in your min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feel the same feelings that the characters ha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ictures for read-alou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586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60199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14600" y="430200"/>
            <a:ext cx="66294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03:33Z</dcterms:created>
  <dc:creator>cysd</dc:creator>
  <dc:description/>
  <dc:language>en-US</dc:language>
  <cp:lastModifiedBy>Tiffany Brewer</cp:lastModifiedBy>
  <dcterms:modified xsi:type="dcterms:W3CDTF">2008-11-25T23:13:23Z</dcterms:modified>
  <cp:revision>5</cp:revision>
  <dc:subject/>
  <dc:title>Into the Wild By: Jon Krakauer</dc:title>
</cp:coreProperties>
</file>